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png" ContentType="image/png"/>
  <Override PartName="/ppt/media/image11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19.gif" ContentType="image/gif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gif" ContentType="image/gif"/>
  <Override PartName="/ppt/media/image14.jpeg" ContentType="image/jpeg"/>
  <Override PartName="/ppt/media/image2.jpeg" ContentType="image/jpeg"/>
  <Override PartName="/ppt/media/image4.png" ContentType="image/png"/>
  <Override PartName="/ppt/media/image20.gif" ContentType="image/gif"/>
  <Override PartName="/ppt/media/image13.jpeg" ContentType="image/jpeg"/>
  <Override PartName="/ppt/media/image15.gif" ContentType="image/gi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83B0-3596-42E3-9690-15E546F7E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A27A-4373-408E-BA8B-F804CC16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3E57-F91D-4906-8073-F87AD763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9D20-3AF0-4350-9E65-7F0F90756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6AAF-4D01-46F9-9411-0AF73A8BB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FECD-0B50-413B-9495-884BE8AA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908A-F499-4ED9-9C40-55C45DD0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0B50-7306-4D3F-BC1D-14611D75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C36E-1723-4BE9-BC50-23B91348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49C8-0644-4F71-9EF8-B36DFCDD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C5F9-9905-4899-AEBF-424CE80D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47BA-3969-4980-B334-226F0153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A266-859C-46E9-9229-52622C0F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6044-EA21-468F-A1B7-9461518C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3837-1C24-44A4-9134-E2F158A8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E8A6-02F4-4D52-A589-FAF711CCC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91D1-F112-4443-8FCE-3DEB01DBD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47DFD-C4EE-4372-AE74-B0C9DF824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7101D-173F-4452-A7A4-11933B2E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9764B-96B8-4DE8-B6E8-E64B50A8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66B4B-1910-41A1-8785-B0F06F1D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2A663-CAD9-4638-BEAE-1BB40542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7D13-AB98-442D-9FF8-825DB0EC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10F92-6F9D-4E7B-893D-E50230BE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A944C-2620-4E11-95CC-0AA8A0FF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F94E2-2ABE-4762-9FEE-6077FF84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8CFBF-97B8-4BE1-8D12-E8D14985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02FB4-4BE4-4D3E-80F0-C11DAB7E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6E075-4B00-4CBA-85C9-E5B95436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9E217-4E45-4B5C-80CD-4E9CE2D5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545F8-0877-4661-9760-17079147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CBB59-2435-44DB-8AEE-84D3F52B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A25CE-6C0B-4107-9B02-5EA2DB06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78E0-13EB-473E-A89D-CBF20E02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AED07-E660-44D1-AFD8-C517073F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853ED-906C-4249-9485-3AF93375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BF09A-F3E3-46B3-B862-68C6AD4D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5E922-F2F4-445F-819B-8ECF33E7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24EA2-3369-4908-990C-498DCA63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513E6-27F1-4806-B6C1-3110D94A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DF207-F15C-4E14-ADDC-12144CE5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DA6BB-2FB3-494C-AF7A-E94A52E2C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A1266-410E-41DB-93F4-BBC05A99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B3D6-B279-4BC6-934B-D96A2D32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5B4B-2FAB-4F21-8836-8B7EC327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0E00-EC65-4517-82B1-ACBF113D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8D6A-E9EB-4AE6-AD26-8CC0E39C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4A09-8F94-4264-B2B7-07733606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7E5A-7D34-49A4-816D-F4924BED89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40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52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40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52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640" y="32004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40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52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640" y="48816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760" y="488160"/>
              <a:ext cx="1195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40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52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640" y="65592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40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520" y="82404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640" y="82404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760" y="824040"/>
              <a:ext cx="1195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180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40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52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640" y="99180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40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520" y="11595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640" y="115956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400" y="132768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640" y="132768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5C41-CC64-4471-A61B-B8A8FBB029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8120" cy="2189160"/>
            <a:chOff x="7493040" y="2992320"/>
            <a:chExt cx="133812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4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4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520" y="32763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48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52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60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4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520" y="384336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48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52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600" cy="2030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44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4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520" y="44114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48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52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52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D18A-38E7-4604-A0BC-4B8BD0E9A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9F06-3603-4143-8C12-CA548515C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audio" Target="file:///tmp/home/.config/libreoffice/4/user/gallery/chimes.wav" TargetMode="External"/><Relationship Id="rId5" Type="http://schemas.microsoft.com/office/2007/relationships/media" Target="file:///tmp/home/.config/libreoffice/4/user/gallery/chimes.wav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gif"/><Relationship Id="rId7" Type="http://schemas.openxmlformats.org/officeDocument/2006/relationships/image" Target="../media/image20.gif"/><Relationship Id="rId8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15560" cy="68785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715000" y="5464080"/>
            <a:ext cx="3429000" cy="1393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228600" y="1523880"/>
            <a:ext cx="864396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第三节 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 </a:t>
            </a: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生物圈是最大的生态系统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233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861640" y="1190160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审核：张宁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zn@163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7162920" y="0"/>
            <a:ext cx="198108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0" y="0"/>
          <a:ext cx="9144000" cy="6445080"/>
        </p:xfrm>
        <a:graphic>
          <a:graphicData uri="http://schemas.openxmlformats.org/drawingml/2006/table">
            <a:tbl>
              <a:tblPr/>
              <a:tblGrid>
                <a:gridCol w="990720"/>
                <a:gridCol w="1752480"/>
                <a:gridCol w="1523880"/>
                <a:gridCol w="3276720"/>
                <a:gridCol w="1600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生态系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动植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作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称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森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农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城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1066680" y="1143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湿润地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990720"/>
            <a:ext cx="1066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种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繁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191120" y="99072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涵养水源、保持水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防风固沙、调节气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净化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43800" y="1066680"/>
            <a:ext cx="189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地球之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绿色水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-1065240" y="655308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66680" y="32767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人工建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95680" y="243828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特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需要人不断播种、施肥、灌溉、除草等才能使农田生态系统朝人类有益的方向发展，一旦人的作用消失，就会被杂草和其他植物取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743200" y="2590920"/>
            <a:ext cx="157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农作物为主，动植物较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66680" y="52578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人工建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51055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种类少，以人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95680" y="50292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*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特征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消费者主要是人类。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排放污水、废弃物多，易造成环境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590920" y="304920"/>
            <a:ext cx="304560" cy="2896920"/>
          </a:xfrm>
          <a:custGeom>
            <a:avLst/>
            <a:gdLst>
              <a:gd name="textAreaLeft" fmla="*/ 194760 w 304560"/>
              <a:gd name="textAreaRight" fmla="*/ 304920 w 304560"/>
              <a:gd name="textAreaTop" fmla="*/ 75240 h 2896920"/>
              <a:gd name="textAreaBottom" fmla="*/ 2821680 h 289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971800" y="76320"/>
            <a:ext cx="338472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森林生态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草原生态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海洋生态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湿地生态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淡水生态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农田生态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城市生态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328760" y="685800"/>
            <a:ext cx="1033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自然生态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04720" y="3657600"/>
            <a:ext cx="1033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人工生态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66880" y="4343400"/>
            <a:ext cx="304920" cy="1066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人工生态系统与自然生态系统的区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自然生态系统生物种类繁多，成分复杂，受人的影响小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具有一定的自动调节能力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而人工生态系统的生物种类较少，生态系统结构单一，生物部分主要是人或者受人的控制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自动调节能力十分弱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，一旦人的作用消失，则生态系统也会消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04920" y="0"/>
            <a:ext cx="86263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ff0000"/>
                </a:solidFill>
                <a:latin typeface="黑体"/>
                <a:ea typeface="黑体"/>
              </a:rPr>
              <a:t>练习</a:t>
            </a:r>
            <a:r>
              <a:rPr b="0" lang="en-US" sz="39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3900" spc="-1" strike="noStrike">
                <a:solidFill>
                  <a:srgbClr val="330066"/>
                </a:solidFill>
                <a:latin typeface="黑体"/>
                <a:ea typeface="黑体"/>
              </a:rPr>
              <a:t>：下列哪些生态系统有“绿色水库”之称</a:t>
            </a:r>
            <a:r>
              <a:rPr b="0" lang="en-US" sz="3900" spc="-1" strike="noStrike">
                <a:solidFill>
                  <a:srgbClr val="330066"/>
                </a:solidFill>
                <a:latin typeface="黑体"/>
                <a:ea typeface="黑体"/>
              </a:rPr>
              <a:t>:</a:t>
            </a:r>
            <a:br>
              <a:rPr sz="3900"/>
            </a:br>
            <a:r>
              <a:rPr b="0" lang="en-US" sz="3900" spc="-1" strike="noStrike">
                <a:solidFill>
                  <a:srgbClr val="330066"/>
                </a:solidFill>
                <a:latin typeface="黑体"/>
                <a:ea typeface="黑体"/>
              </a:rPr>
              <a:t>A.</a:t>
            </a:r>
            <a:r>
              <a:rPr b="0" lang="zh-CN" sz="3900" spc="-1" strike="noStrike">
                <a:solidFill>
                  <a:srgbClr val="330066"/>
                </a:solidFill>
                <a:latin typeface="黑体"/>
                <a:ea typeface="黑体"/>
              </a:rPr>
              <a:t>海洋生态系统  </a:t>
            </a:r>
            <a:r>
              <a:rPr b="0" lang="en-US" sz="3900" spc="-1" strike="noStrike">
                <a:solidFill>
                  <a:srgbClr val="330066"/>
                </a:solidFill>
                <a:latin typeface="黑体"/>
                <a:ea typeface="黑体"/>
              </a:rPr>
              <a:t>B.</a:t>
            </a:r>
            <a:r>
              <a:rPr b="0" lang="zh-CN" sz="3900" spc="-1" strike="noStrike">
                <a:solidFill>
                  <a:srgbClr val="330066"/>
                </a:solidFill>
                <a:latin typeface="黑体"/>
                <a:ea typeface="黑体"/>
              </a:rPr>
              <a:t>农田生态系统   </a:t>
            </a:r>
            <a:br>
              <a:rPr sz="3900"/>
            </a:br>
            <a:r>
              <a:rPr b="0" lang="en-US" sz="3900" spc="-1" strike="noStrike">
                <a:solidFill>
                  <a:srgbClr val="330066"/>
                </a:solidFill>
                <a:latin typeface="黑体"/>
                <a:ea typeface="黑体"/>
              </a:rPr>
              <a:t>C.</a:t>
            </a:r>
            <a:r>
              <a:rPr b="0" lang="zh-CN" sz="3900" spc="-1" strike="noStrike">
                <a:solidFill>
                  <a:srgbClr val="330066"/>
                </a:solidFill>
                <a:latin typeface="黑体"/>
                <a:ea typeface="黑体"/>
              </a:rPr>
              <a:t>森林生态系统  </a:t>
            </a:r>
            <a:r>
              <a:rPr b="0" lang="en-US" sz="3900" spc="-1" strike="noStrike">
                <a:solidFill>
                  <a:srgbClr val="330066"/>
                </a:solidFill>
                <a:latin typeface="黑体"/>
                <a:ea typeface="黑体"/>
              </a:rPr>
              <a:t>D.</a:t>
            </a:r>
            <a:r>
              <a:rPr b="0" lang="zh-CN" sz="3900" spc="-1" strike="noStrike">
                <a:solidFill>
                  <a:srgbClr val="330066"/>
                </a:solidFill>
                <a:latin typeface="黑体"/>
                <a:ea typeface="黑体"/>
              </a:rPr>
              <a:t>淡水生态系统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90920" y="12193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52360" y="-25560"/>
            <a:ext cx="827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生物圈是一个统一的整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8600" y="990720"/>
            <a:ext cx="584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.P26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想一想，议一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1828800"/>
            <a:ext cx="86868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黑体"/>
                <a:ea typeface="黑体"/>
              </a:rPr>
              <a:t>练习</a:t>
            </a:r>
            <a:r>
              <a:rPr b="0" lang="zh-CN" sz="3400" spc="-1" strike="noStrike">
                <a:solidFill>
                  <a:srgbClr val="330066"/>
                </a:solidFill>
                <a:latin typeface="黑体"/>
                <a:ea typeface="黑体"/>
              </a:rPr>
              <a:t>：施用农药“</a:t>
            </a:r>
            <a:r>
              <a:rPr b="0" lang="en-US" sz="3400" spc="-1" strike="noStrike">
                <a:solidFill>
                  <a:srgbClr val="330066"/>
                </a:solidFill>
                <a:latin typeface="黑体"/>
                <a:ea typeface="黑体"/>
              </a:rPr>
              <a:t>DDT”</a:t>
            </a:r>
            <a:r>
              <a:rPr b="0" lang="zh-CN" sz="3400" spc="-1" strike="noStrike">
                <a:solidFill>
                  <a:srgbClr val="330066"/>
                </a:solidFill>
                <a:latin typeface="黑体"/>
                <a:ea typeface="黑体"/>
              </a:rPr>
              <a:t>的地区，虽然只占陆地面积的一小部分，可是远在南极的动物体内也发现了</a:t>
            </a:r>
            <a:r>
              <a:rPr b="0" lang="en-US" sz="3400" spc="-1" strike="noStrike">
                <a:solidFill>
                  <a:srgbClr val="330066"/>
                </a:solidFill>
                <a:latin typeface="黑体"/>
                <a:ea typeface="黑体"/>
              </a:rPr>
              <a:t>DDT</a:t>
            </a:r>
            <a:r>
              <a:rPr b="0" lang="zh-CN" sz="3400" spc="-1" strike="noStrike">
                <a:solidFill>
                  <a:srgbClr val="330066"/>
                </a:solidFill>
                <a:latin typeface="黑体"/>
                <a:ea typeface="黑体"/>
              </a:rPr>
              <a:t>，这种现象说明</a:t>
            </a:r>
            <a:r>
              <a:rPr b="0" lang="en-US" sz="3400" spc="-1" strike="noStrike">
                <a:solidFill>
                  <a:srgbClr val="330066"/>
                </a:solidFill>
                <a:latin typeface="黑体"/>
                <a:ea typeface="黑体"/>
              </a:rPr>
              <a:t>:</a:t>
            </a:r>
            <a:br>
              <a:rPr sz="3400"/>
            </a:br>
            <a:r>
              <a:rPr b="0" lang="en-US" sz="3400" spc="-1" strike="noStrike">
                <a:solidFill>
                  <a:srgbClr val="330066"/>
                </a:solidFill>
                <a:latin typeface="黑体"/>
                <a:ea typeface="黑体"/>
              </a:rPr>
              <a:t>A.DDT</a:t>
            </a:r>
            <a:r>
              <a:rPr b="0" lang="zh-CN" sz="3400" spc="-1" strike="noStrike">
                <a:solidFill>
                  <a:srgbClr val="330066"/>
                </a:solidFill>
                <a:latin typeface="黑体"/>
                <a:ea typeface="黑体"/>
              </a:rPr>
              <a:t>挥发性极强        </a:t>
            </a:r>
            <a:br>
              <a:rPr sz="3400"/>
            </a:br>
            <a:r>
              <a:rPr b="0" lang="en-US" sz="3400" spc="-1" strike="noStrike">
                <a:solidFill>
                  <a:srgbClr val="330066"/>
                </a:solidFill>
                <a:latin typeface="黑体"/>
                <a:ea typeface="黑体"/>
              </a:rPr>
              <a:t>B.</a:t>
            </a:r>
            <a:r>
              <a:rPr b="0" lang="zh-CN" sz="3400" spc="-1" strike="noStrike">
                <a:solidFill>
                  <a:srgbClr val="330066"/>
                </a:solidFill>
                <a:latin typeface="黑体"/>
                <a:ea typeface="黑体"/>
              </a:rPr>
              <a:t>这些南极动物可能是从施药地区迁去的</a:t>
            </a:r>
            <a:br>
              <a:rPr sz="3400"/>
            </a:br>
            <a:r>
              <a:rPr b="0" lang="en-US" sz="3400" spc="-1" strike="noStrike">
                <a:solidFill>
                  <a:srgbClr val="330066"/>
                </a:solidFill>
                <a:latin typeface="黑体"/>
                <a:ea typeface="黑体"/>
              </a:rPr>
              <a:t>C.</a:t>
            </a:r>
            <a:r>
              <a:rPr b="0" lang="zh-CN" sz="3400" spc="-1" strike="noStrike">
                <a:solidFill>
                  <a:srgbClr val="330066"/>
                </a:solidFill>
                <a:latin typeface="黑体"/>
                <a:ea typeface="黑体"/>
              </a:rPr>
              <a:t>考察队把</a:t>
            </a:r>
            <a:r>
              <a:rPr b="0" lang="en-US" sz="3400" spc="-1" strike="noStrike">
                <a:solidFill>
                  <a:srgbClr val="330066"/>
                </a:solidFill>
                <a:latin typeface="黑体"/>
                <a:ea typeface="黑体"/>
              </a:rPr>
              <a:t>DDT</a:t>
            </a:r>
            <a:r>
              <a:rPr b="0" lang="zh-CN" sz="3400" spc="-1" strike="noStrike">
                <a:solidFill>
                  <a:srgbClr val="330066"/>
                </a:solidFill>
                <a:latin typeface="黑体"/>
                <a:ea typeface="黑体"/>
              </a:rPr>
              <a:t>带到南极       </a:t>
            </a:r>
            <a:br>
              <a:rPr sz="3400"/>
            </a:br>
            <a:r>
              <a:rPr b="0" lang="en-US" sz="3400" spc="-1" strike="noStrike">
                <a:solidFill>
                  <a:srgbClr val="330066"/>
                </a:solidFill>
                <a:latin typeface="黑体"/>
                <a:ea typeface="黑体"/>
              </a:rPr>
              <a:t>D.</a:t>
            </a:r>
            <a:r>
              <a:rPr b="0" lang="zh-CN" sz="3400" spc="-1" strike="noStrike">
                <a:solidFill>
                  <a:srgbClr val="330066"/>
                </a:solidFill>
                <a:latin typeface="黑体"/>
                <a:ea typeface="黑体"/>
              </a:rPr>
              <a:t>人类活动对环境的影响有许多是全球性的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3124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685800" y="30492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生物圈是一个统一的整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04920" y="990720"/>
            <a:ext cx="1828800" cy="533160"/>
            <a:chOff x="304920" y="990720"/>
            <a:chExt cx="1828800" cy="533160"/>
          </a:xfrm>
        </p:grpSpPr>
        <p:sp>
          <p:nvSpPr>
            <p:cNvPr id="323" name=""/>
            <p:cNvSpPr/>
            <p:nvPr/>
          </p:nvSpPr>
          <p:spPr>
            <a:xfrm>
              <a:off x="304920" y="990720"/>
              <a:ext cx="1447920" cy="5331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81240" y="9907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资料分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304920" y="1752480"/>
            <a:ext cx="8534160" cy="2128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析下面的资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幼圆"/>
                <a:ea typeface="幼圆"/>
              </a:rPr>
              <a:t>河流是一个生态系统。生活在河里的龟、鳄等爬行动物会看爬到河岸上产卵。鹭吃河里的鱼、虾、河蚌等动物，但它却在河边的大树上筑巢。陆地上动物，有时要到河边喝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幼圆"/>
                <a:ea typeface="幼圆"/>
              </a:rPr>
              <a:t>    </a:t>
            </a:r>
            <a:r>
              <a:rPr b="1" lang="zh-CN" sz="2400" spc="-1" strike="noStrike">
                <a:solidFill>
                  <a:srgbClr val="3333cc"/>
                </a:solidFill>
                <a:latin typeface="幼圆"/>
                <a:ea typeface="幼圆"/>
              </a:rPr>
              <a:t>对于河流生态系统来说，阳光和空气并不是它所独有的。降雨会带来别处的水分，还会把陆地上的土壤冲入河流。风也可以把远处的植物种子吹到河流中。河水可以用来灌溉农田。有在些地方，人们的饮用水也取自河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讨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幼圆"/>
              </a:rPr>
              <a:t>河流生态系统与哪些生态系统有关联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026"/>
          <p:cNvSpPr/>
          <p:nvPr/>
        </p:nvSpPr>
        <p:spPr>
          <a:xfrm>
            <a:off x="533520" y="152280"/>
            <a:ext cx="745164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生物圈是一个统一的整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Oval 2"/>
          <p:cNvSpPr/>
          <p:nvPr/>
        </p:nvSpPr>
        <p:spPr>
          <a:xfrm>
            <a:off x="2411280" y="2997360"/>
            <a:ext cx="324036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河流（淡水）生态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3"/>
          <p:cNvSpPr/>
          <p:nvPr/>
        </p:nvSpPr>
        <p:spPr>
          <a:xfrm>
            <a:off x="395280" y="1413000"/>
            <a:ext cx="194472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森林生态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4"/>
          <p:cNvSpPr/>
          <p:nvPr/>
        </p:nvSpPr>
        <p:spPr>
          <a:xfrm>
            <a:off x="6156360" y="1557360"/>
            <a:ext cx="194472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农田生态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5"/>
          <p:cNvSpPr/>
          <p:nvPr/>
        </p:nvSpPr>
        <p:spPr>
          <a:xfrm>
            <a:off x="6877080" y="3213000"/>
            <a:ext cx="201600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城市生态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6"/>
          <p:cNvSpPr/>
          <p:nvPr/>
        </p:nvSpPr>
        <p:spPr>
          <a:xfrm>
            <a:off x="179280" y="4724280"/>
            <a:ext cx="223200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湿地生态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7"/>
          <p:cNvSpPr/>
          <p:nvPr/>
        </p:nvSpPr>
        <p:spPr>
          <a:xfrm>
            <a:off x="6443640" y="5157720"/>
            <a:ext cx="2087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海洋生态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8"/>
          <p:cNvSpPr/>
          <p:nvPr/>
        </p:nvSpPr>
        <p:spPr>
          <a:xfrm>
            <a:off x="2556000" y="476280"/>
            <a:ext cx="194472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草原生态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9"/>
          <p:cNvSpPr/>
          <p:nvPr/>
        </p:nvSpPr>
        <p:spPr>
          <a:xfrm>
            <a:off x="2050920" y="2133720"/>
            <a:ext cx="100836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0"/>
          <p:cNvSpPr/>
          <p:nvPr/>
        </p:nvSpPr>
        <p:spPr>
          <a:xfrm flipH="1">
            <a:off x="2410920" y="3933720"/>
            <a:ext cx="79236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1"/>
          <p:cNvSpPr/>
          <p:nvPr/>
        </p:nvSpPr>
        <p:spPr>
          <a:xfrm>
            <a:off x="3564000" y="1413000"/>
            <a:ext cx="36036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2"/>
          <p:cNvSpPr/>
          <p:nvPr/>
        </p:nvSpPr>
        <p:spPr>
          <a:xfrm flipV="1">
            <a:off x="5435640" y="2420640"/>
            <a:ext cx="936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3"/>
          <p:cNvSpPr/>
          <p:nvPr/>
        </p:nvSpPr>
        <p:spPr>
          <a:xfrm>
            <a:off x="5508720" y="357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4"/>
          <p:cNvSpPr/>
          <p:nvPr/>
        </p:nvSpPr>
        <p:spPr>
          <a:xfrm>
            <a:off x="5219640" y="3933720"/>
            <a:ext cx="12970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5"/>
          <p:cNvSpPr/>
          <p:nvPr/>
        </p:nvSpPr>
        <p:spPr>
          <a:xfrm>
            <a:off x="1476360" y="2276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Arial"/>
              </a:rPr>
              <a:t>源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6"/>
          <p:cNvSpPr/>
          <p:nvPr/>
        </p:nvSpPr>
        <p:spPr>
          <a:xfrm>
            <a:off x="2916360" y="14842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Arial"/>
              </a:rPr>
              <a:t>源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7"/>
          <p:cNvSpPr/>
          <p:nvPr/>
        </p:nvSpPr>
        <p:spPr>
          <a:xfrm>
            <a:off x="1835280" y="422100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Arial"/>
              </a:rPr>
              <a:t>沿途　形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8"/>
          <p:cNvSpPr/>
          <p:nvPr/>
        </p:nvSpPr>
        <p:spPr>
          <a:xfrm>
            <a:off x="5435640" y="45752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Arial"/>
              </a:rPr>
              <a:t>流 　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9"/>
          <p:cNvSpPr/>
          <p:nvPr/>
        </p:nvSpPr>
        <p:spPr>
          <a:xfrm>
            <a:off x="5364000" y="2349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Arial"/>
              </a:rPr>
              <a:t>灌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0"/>
          <p:cNvSpPr/>
          <p:nvPr/>
        </p:nvSpPr>
        <p:spPr>
          <a:xfrm>
            <a:off x="5940360" y="3141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Arial"/>
              </a:rPr>
              <a:t>供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18960" y="101520"/>
            <a:ext cx="19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资料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1026"/>
          <p:cNvSpPr/>
          <p:nvPr/>
        </p:nvSpPr>
        <p:spPr>
          <a:xfrm>
            <a:off x="609480" y="304920"/>
            <a:ext cx="74520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黑体"/>
                <a:ea typeface="黑体"/>
              </a:rPr>
              <a:t>生物圈是一个统一的整体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3355920"/>
            <a:ext cx="72010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132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494172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" y="1600200"/>
            <a:ext cx="80773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河流生态系统与许多生态系统有着密切的联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0880" y="3048120"/>
            <a:ext cx="716292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想一想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其他生态系统与周围的生态系统有联系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7543800" y="2133720"/>
            <a:ext cx="1371240" cy="4419000"/>
            <a:chOff x="7543800" y="2133720"/>
            <a:chExt cx="1371240" cy="441900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7543800" y="2658960"/>
              <a:ext cx="943200" cy="38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 txBox="1"/>
            <p:nvPr/>
          </p:nvSpPr>
          <p:spPr>
            <a:xfrm>
              <a:off x="8205480" y="2133720"/>
              <a:ext cx="709560" cy="50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宋体"/>
                </a:rPr>
                <a:t>？？？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黑体"/>
                <a:ea typeface="黑体"/>
              </a:rPr>
              <a:t>生物圈是一个统一的整体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非生物因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来说：地球上所有的生态系统都受到非生物因素的影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地域关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来说：各类生态系统也是彼此相互关联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生态系统中的生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来说：很多生物可以到达不同的生态系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" y="1371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际上，每一个生态系统都与周围的其他生态系统相关联，这种关联表现在方方面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11280" y="177336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●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生物圈是一个统一的整体，是地球上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最大的生态系统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，是所有生物共同的家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1280" y="40464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结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思考一下</a:t>
            </a:r>
            <a:r>
              <a:rPr b="0" lang="zh-CN" sz="4400" spc="-1" strike="noStrike">
                <a:solidFill>
                  <a:srgbClr val="9933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1981080"/>
            <a:ext cx="73152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生物圈的范围有多大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地球上所有的地方都有生物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7543800" y="1752480"/>
            <a:ext cx="1371240" cy="4419360"/>
            <a:chOff x="7543800" y="1752480"/>
            <a:chExt cx="1371240" cy="4419360"/>
          </a:xfrm>
        </p:grpSpPr>
        <p:pic>
          <p:nvPicPr>
            <p:cNvPr id="238" name="" descr=""/>
            <p:cNvPicPr/>
            <p:nvPr/>
          </p:nvPicPr>
          <p:blipFill>
            <a:blip r:embed="rId2"/>
            <a:stretch/>
          </p:blipFill>
          <p:spPr>
            <a:xfrm>
              <a:off x="7543800" y="2277720"/>
              <a:ext cx="943200" cy="389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 txBox="1"/>
            <p:nvPr/>
          </p:nvSpPr>
          <p:spPr>
            <a:xfrm>
              <a:off x="8205480" y="1752480"/>
              <a:ext cx="709560" cy="50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宋体"/>
                </a:rPr>
                <a:t>？？？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403280" y="228600"/>
            <a:ext cx="46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小结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57200" y="121932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生物圈的范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143000" y="2209680"/>
            <a:ext cx="457200" cy="2971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3880" y="202572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气圈的底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523880" y="441972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岩石圈的表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523880" y="320040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水圈的大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990720" y="76320"/>
            <a:ext cx="46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小结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752480" y="1981080"/>
            <a:ext cx="304920" cy="4267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11240 h 4267440"/>
              <a:gd name="textAreaBottom" fmla="*/ 4156200 h 426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" y="114300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态系统的类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209680" y="1905120"/>
            <a:ext cx="3384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森林生态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草原生态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海洋生态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湿地生态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淡水生态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农田生态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城市生态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403280" y="228600"/>
            <a:ext cx="46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小结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" y="144792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三、生物圈是一个统一的整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2590920"/>
            <a:ext cx="8305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生物圈是一个统一的整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生物圈是地球上最大的生态系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是所有生物共同的家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4"/>
          <p:cNvSpPr/>
          <p:nvPr/>
        </p:nvSpPr>
        <p:spPr>
          <a:xfrm>
            <a:off x="98280" y="1064880"/>
            <a:ext cx="805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有“绿色水库”之称的生态系统是（　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Ａ．城市生态系统       Ｂ．草原生态系统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Ｃ．森林生态系统       Ｄ．淡水生态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2092320" y="2648880"/>
            <a:ext cx="5024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下列生态系统中，生物种类和数量最多的是（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海洋生态系统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城市生态系统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农田生态系统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湿地生态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有“地球之肾”之称的生态系统是（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淡水生态系统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城市生态系统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农田生态系统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湿地生态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WordArt 6"/>
          <p:cNvSpPr txBox="1"/>
          <p:nvPr/>
        </p:nvSpPr>
        <p:spPr>
          <a:xfrm>
            <a:off x="2700360" y="165240"/>
            <a:ext cx="247644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课堂练习</a:t>
            </a:r>
            <a:endParaRPr b="1" lang="en-US" sz="4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  <p:sp>
        <p:nvSpPr>
          <p:cNvPr id="376" name=""/>
          <p:cNvSpPr/>
          <p:nvPr/>
        </p:nvSpPr>
        <p:spPr>
          <a:xfrm>
            <a:off x="6629400" y="91440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924680" y="251460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477120" y="420516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4"/>
          <p:cNvSpPr/>
          <p:nvPr/>
        </p:nvSpPr>
        <p:spPr>
          <a:xfrm>
            <a:off x="326880" y="1293480"/>
            <a:ext cx="805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人的作用最突出的生态系统是（　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Ａ．森林生态系统       Ｂ．农田生态系统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Ｃ．海洋生态系统       Ｄ．淡水生态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1872360" y="2895840"/>
            <a:ext cx="5396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在地球上，最大的生态系统是（　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森林生态系统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草原生态系统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海洋生态系统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生物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WordArt 6"/>
          <p:cNvSpPr txBox="1"/>
          <p:nvPr/>
        </p:nvSpPr>
        <p:spPr>
          <a:xfrm>
            <a:off x="2700360" y="165240"/>
            <a:ext cx="247644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课堂练习</a:t>
            </a:r>
            <a:endParaRPr b="1" lang="en-US" sz="4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  <p:sp>
        <p:nvSpPr>
          <p:cNvPr id="382" name=""/>
          <p:cNvSpPr/>
          <p:nvPr/>
        </p:nvSpPr>
        <p:spPr>
          <a:xfrm>
            <a:off x="6095880" y="115740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019920" y="313848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3"/>
          <p:cNvSpPr/>
          <p:nvPr/>
        </p:nvSpPr>
        <p:spPr>
          <a:xfrm>
            <a:off x="675360" y="1197000"/>
            <a:ext cx="1278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湿地生态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城市生态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海洋生态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淡水生态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森林生态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农田生态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草原生态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5114160" y="1197000"/>
            <a:ext cx="3068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湿润地区，生物种类较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旱地区，生物种类较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海洋和海洋生物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水和过湿条件下形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淡水和淡水生物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农作物为主，生物种类较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消费者主要是人，生物种类较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7"/>
          <p:cNvSpPr/>
          <p:nvPr/>
        </p:nvSpPr>
        <p:spPr>
          <a:xfrm>
            <a:off x="2268360" y="1413000"/>
            <a:ext cx="2087640" cy="20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"/>
          <p:cNvSpPr/>
          <p:nvPr/>
        </p:nvSpPr>
        <p:spPr>
          <a:xfrm>
            <a:off x="2195640" y="2276640"/>
            <a:ext cx="2232000" cy="345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9"/>
          <p:cNvSpPr/>
          <p:nvPr/>
        </p:nvSpPr>
        <p:spPr>
          <a:xfrm flipV="1">
            <a:off x="2195640" y="1628280"/>
            <a:ext cx="2232000" cy="280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0"/>
          <p:cNvSpPr/>
          <p:nvPr/>
        </p:nvSpPr>
        <p:spPr>
          <a:xfrm flipV="1">
            <a:off x="2195640" y="2276640"/>
            <a:ext cx="2305080" cy="352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1"/>
          <p:cNvSpPr/>
          <p:nvPr/>
        </p:nvSpPr>
        <p:spPr>
          <a:xfrm>
            <a:off x="2268360" y="5084640"/>
            <a:ext cx="215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2"/>
          <p:cNvSpPr/>
          <p:nvPr/>
        </p:nvSpPr>
        <p:spPr>
          <a:xfrm>
            <a:off x="2195640" y="3645000"/>
            <a:ext cx="2232000" cy="598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3"/>
          <p:cNvSpPr/>
          <p:nvPr/>
        </p:nvSpPr>
        <p:spPr>
          <a:xfrm>
            <a:off x="2195640" y="2924280"/>
            <a:ext cx="216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WordArt 14"/>
          <p:cNvSpPr txBox="1"/>
          <p:nvPr/>
        </p:nvSpPr>
        <p:spPr>
          <a:xfrm>
            <a:off x="3124080" y="152280"/>
            <a:ext cx="1895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连连看</a:t>
            </a:r>
            <a:endParaRPr b="1" lang="en-US" sz="4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http://img.51bzzj.com/upload/1024x768/1201/1115380326.jpg"/>
          <p:cNvPicPr/>
          <p:nvPr/>
        </p:nvPicPr>
        <p:blipFill>
          <a:blip r:embed="rId2"/>
          <a:stretch/>
        </p:blipFill>
        <p:spPr>
          <a:xfrm>
            <a:off x="3886200" y="1447920"/>
            <a:ext cx="5148360" cy="449568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想一想，议一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227160" y="1218960"/>
            <a:ext cx="41752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南极地区的企鹅体内，怎么也出现了农药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DT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4"/>
          <p:cNvSpPr/>
          <p:nvPr/>
        </p:nvSpPr>
        <p:spPr>
          <a:xfrm>
            <a:off x="152280" y="297180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黑体"/>
              </a:rPr>
              <a:t>在其他洲施用的农药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黑体"/>
              </a:rPr>
              <a:t>DDT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黑体"/>
              </a:rPr>
              <a:t>，被雨水冲刷进入河流等水体中，进而流入海洋。而地球上整个海洋是连成一体的，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黑体"/>
              </a:rPr>
              <a:t>DDT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黑体"/>
              </a:rPr>
              <a:t>就有可能随着海水的运动进入南极的海洋，从而进入南极洲的动物体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>
            <a:hlinkClick r:id="" action="ppaction://hlinkshowjump?jump=nextslide"/>
          </p:cNvPr>
          <p:cNvSpPr/>
          <p:nvPr/>
        </p:nvSpPr>
        <p:spPr>
          <a:xfrm>
            <a:off x="539640" y="333360"/>
            <a:ext cx="1511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9900cc"/>
                </a:solidFill>
                <a:latin typeface="Arial"/>
              </a:rPr>
              <a:t>ＤＤ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0920" y="9079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ff"/>
                </a:solidFill>
                <a:latin typeface="Arial"/>
              </a:rPr>
              <a:t>农田生态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50920" y="333360"/>
            <a:ext cx="1799640" cy="942840"/>
            <a:chOff x="250920" y="333360"/>
            <a:chExt cx="1799640" cy="942840"/>
          </a:xfrm>
        </p:grpSpPr>
        <p:sp>
          <p:nvSpPr>
            <p:cNvPr id="401" name="">
              <a:hlinkClick r:id="" action="ppaction://hlinkshowjump?jump=nextslide"/>
            </p:cNvPr>
            <p:cNvSpPr/>
            <p:nvPr/>
          </p:nvSpPr>
          <p:spPr>
            <a:xfrm>
              <a:off x="539640" y="333360"/>
              <a:ext cx="151092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9900cc"/>
                  </a:solidFill>
                  <a:latin typeface="Arial"/>
                </a:rPr>
                <a:t>ＤＤ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0920" y="907920"/>
              <a:ext cx="15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ff"/>
                  </a:solidFill>
                  <a:latin typeface="Arial"/>
                </a:rPr>
                <a:t>农田生态系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2124000" y="907920"/>
            <a:ext cx="1871640" cy="1008000"/>
            <a:chOff x="2124000" y="907920"/>
            <a:chExt cx="1871640" cy="1008000"/>
          </a:xfrm>
        </p:grpSpPr>
        <p:sp>
          <p:nvSpPr>
            <p:cNvPr id="404" name=""/>
            <p:cNvSpPr/>
            <p:nvPr/>
          </p:nvSpPr>
          <p:spPr>
            <a:xfrm>
              <a:off x="2340000" y="1268280"/>
              <a:ext cx="1655640" cy="64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9900cc"/>
                  </a:solidFill>
                  <a:latin typeface="Arial"/>
                </a:rPr>
                <a:t>河流生态系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24000" y="907920"/>
              <a:ext cx="2890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468360" y="1844640"/>
            <a:ext cx="1873080" cy="1368360"/>
            <a:chOff x="468360" y="1844640"/>
            <a:chExt cx="1873080" cy="1368360"/>
          </a:xfrm>
        </p:grpSpPr>
        <p:sp>
          <p:nvSpPr>
            <p:cNvPr id="407" name=""/>
            <p:cNvSpPr/>
            <p:nvPr/>
          </p:nvSpPr>
          <p:spPr>
            <a:xfrm flipH="1">
              <a:off x="1476360" y="1844640"/>
              <a:ext cx="72072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68360" y="2421000"/>
              <a:ext cx="1873080" cy="79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9900cc"/>
                  </a:solidFill>
                  <a:latin typeface="Arial"/>
                </a:rPr>
                <a:t>海洋生态系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755640" y="3284640"/>
            <a:ext cx="952560" cy="1815480"/>
            <a:chOff x="755640" y="3284640"/>
            <a:chExt cx="952560" cy="1815480"/>
          </a:xfrm>
        </p:grpSpPr>
        <p:pic>
          <p:nvPicPr>
            <p:cNvPr id="410" name="" descr=""/>
            <p:cNvPicPr/>
            <p:nvPr/>
          </p:nvPicPr>
          <p:blipFill>
            <a:blip r:embed="rId2"/>
            <a:stretch/>
          </p:blipFill>
          <p:spPr>
            <a:xfrm>
              <a:off x="755640" y="4147920"/>
              <a:ext cx="952560" cy="95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1332000" y="3284640"/>
              <a:ext cx="0" cy="7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4140360" y="4581360"/>
            <a:ext cx="2853720" cy="1584000"/>
            <a:chOff x="4140360" y="4581360"/>
            <a:chExt cx="2853720" cy="1584000"/>
          </a:xfrm>
        </p:grpSpPr>
        <p:pic>
          <p:nvPicPr>
            <p:cNvPr id="413" name="" descr=""/>
            <p:cNvPicPr/>
            <p:nvPr/>
          </p:nvPicPr>
          <p:blipFill>
            <a:blip r:embed="rId3"/>
            <a:stretch/>
          </p:blipFill>
          <p:spPr>
            <a:xfrm>
              <a:off x="5795640" y="4581360"/>
              <a:ext cx="119844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 flipV="1">
              <a:off x="4429080" y="5589000"/>
              <a:ext cx="15109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40360" y="4797360"/>
              <a:ext cx="13680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3492360" y="1989000"/>
            <a:ext cx="5113440" cy="2590920"/>
            <a:chOff x="3492360" y="1989000"/>
            <a:chExt cx="5113440" cy="2590920"/>
          </a:xfrm>
        </p:grpSpPr>
        <p:grpSp>
          <p:nvGrpSpPr>
            <p:cNvPr id="417" name=""/>
            <p:cNvGrpSpPr/>
            <p:nvPr/>
          </p:nvGrpSpPr>
          <p:grpSpPr>
            <a:xfrm>
              <a:off x="6948360" y="1989000"/>
              <a:ext cx="1657440" cy="1795320"/>
              <a:chOff x="6948360" y="1989000"/>
              <a:chExt cx="1657440" cy="1795320"/>
            </a:xfrm>
          </p:grpSpPr>
          <p:pic>
            <p:nvPicPr>
              <p:cNvPr id="41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524720" y="2565360"/>
                <a:ext cx="939600" cy="12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"/>
              <p:cNvSpPr/>
              <p:nvPr/>
            </p:nvSpPr>
            <p:spPr>
              <a:xfrm>
                <a:off x="6948360" y="1989000"/>
                <a:ext cx="1657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0000ff"/>
                    </a:solidFill>
                    <a:latin typeface="Arial"/>
                  </a:rPr>
                  <a:t>城市生态系统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5724360" y="2420640"/>
              <a:ext cx="151128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6877080" y="4076640"/>
              <a:ext cx="86508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3492360" y="3573000"/>
              <a:ext cx="374328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1835280" y="1557360"/>
            <a:ext cx="3948120" cy="4849560"/>
            <a:chOff x="1835280" y="1557360"/>
            <a:chExt cx="3948120" cy="4849560"/>
          </a:xfrm>
        </p:grpSpPr>
        <p:grpSp>
          <p:nvGrpSpPr>
            <p:cNvPr id="424" name=""/>
            <p:cNvGrpSpPr/>
            <p:nvPr/>
          </p:nvGrpSpPr>
          <p:grpSpPr>
            <a:xfrm>
              <a:off x="1835280" y="5157720"/>
              <a:ext cx="2698920" cy="1249200"/>
              <a:chOff x="1835280" y="5157720"/>
              <a:chExt cx="2698920" cy="1249200"/>
            </a:xfrm>
          </p:grpSpPr>
          <p:sp>
            <p:nvSpPr>
              <p:cNvPr id="425" name=""/>
              <p:cNvSpPr/>
              <p:nvPr/>
            </p:nvSpPr>
            <p:spPr>
              <a:xfrm>
                <a:off x="1835280" y="5157720"/>
                <a:ext cx="115236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2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346560" y="5516640"/>
                <a:ext cx="1187640" cy="890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7" name=""/>
            <p:cNvGrpSpPr/>
            <p:nvPr/>
          </p:nvGrpSpPr>
          <p:grpSpPr>
            <a:xfrm>
              <a:off x="1835280" y="4292640"/>
              <a:ext cx="1897200" cy="934920"/>
              <a:chOff x="1835280" y="4292640"/>
              <a:chExt cx="1897200" cy="934920"/>
            </a:xfrm>
          </p:grpSpPr>
          <p:pic>
            <p:nvPicPr>
              <p:cNvPr id="42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914920" y="4292640"/>
                <a:ext cx="817560" cy="93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"/>
              <p:cNvSpPr/>
              <p:nvPr/>
            </p:nvSpPr>
            <p:spPr>
              <a:xfrm>
                <a:off x="1835280" y="4653000"/>
                <a:ext cx="72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2051280" y="1557360"/>
              <a:ext cx="3732120" cy="2736360"/>
              <a:chOff x="2051280" y="1557360"/>
              <a:chExt cx="3732120" cy="2736360"/>
            </a:xfrm>
          </p:grpSpPr>
          <p:sp>
            <p:nvSpPr>
              <p:cNvPr id="431" name=""/>
              <p:cNvSpPr/>
              <p:nvPr/>
            </p:nvSpPr>
            <p:spPr>
              <a:xfrm flipV="1">
                <a:off x="2051280" y="2709360"/>
                <a:ext cx="2664000" cy="158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54920" y="1557360"/>
                <a:ext cx="1428480" cy="1209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WordArt 3"/>
          <p:cNvSpPr txBox="1"/>
          <p:nvPr/>
        </p:nvSpPr>
        <p:spPr>
          <a:xfrm>
            <a:off x="2057400" y="1523880"/>
            <a:ext cx="53341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保护生物圈，人人有责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34" name="WordArt 4"/>
          <p:cNvSpPr txBox="1"/>
          <p:nvPr/>
        </p:nvSpPr>
        <p:spPr>
          <a:xfrm>
            <a:off x="250920" y="3068640"/>
            <a:ext cx="8582040" cy="15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</a:rPr>
              <a:t>保护环境，珍爱人和生物共有的家园！</a:t>
            </a:r>
            <a:endParaRPr b="0" lang="en-US" sz="40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方正姚体"/>
              <a:ea typeface="方正姚体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143000" y="380880"/>
            <a:ext cx="4691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一、生物圈的范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1600200"/>
            <a:ext cx="262080" cy="3906720"/>
          </a:xfrm>
          <a:custGeom>
            <a:avLst/>
            <a:gdLst>
              <a:gd name="textAreaLeft" fmla="*/ 167400 w 262080"/>
              <a:gd name="textAreaRight" fmla="*/ 262440 w 262080"/>
              <a:gd name="textAreaTop" fmla="*/ 101880 h 3906720"/>
              <a:gd name="textAreaBottom" fmla="*/ 3804840 h 390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6320" y="2666880"/>
            <a:ext cx="45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生物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144792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大气圈的底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3214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水圈的大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4800600"/>
            <a:ext cx="286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岩石圈的表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144792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有空气，生物有能飞的昆虫、鸟类，还有细菌等微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00400" y="320040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包括海洋、江河湖泊，有大量生物，大多生活在距海面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15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米以内水层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29000" y="46483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地球表面固体部分，陆生生物“立足点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838080"/>
            <a:ext cx="914400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练习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下列关于生物圈的说法正确的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黑体"/>
                <a:ea typeface="黑体"/>
              </a:rPr>
              <a:t>A.</a:t>
            </a:r>
            <a:r>
              <a:rPr b="1" lang="zh-CN" sz="3600" spc="-1" strike="noStrike">
                <a:solidFill>
                  <a:srgbClr val="cc0099"/>
                </a:solidFill>
                <a:latin typeface="黑体"/>
                <a:ea typeface="黑体"/>
              </a:rPr>
              <a:t>生物圈由植物、动物以及微生物构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黑体"/>
                <a:ea typeface="黑体"/>
              </a:rPr>
              <a:t>B.</a:t>
            </a:r>
            <a:r>
              <a:rPr b="1" lang="zh-CN" sz="3600" spc="-1" strike="noStrike">
                <a:solidFill>
                  <a:srgbClr val="cc0099"/>
                </a:solidFill>
                <a:latin typeface="黑体"/>
                <a:ea typeface="黑体"/>
              </a:rPr>
              <a:t>生物圈包括地球的全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黑体"/>
                <a:ea typeface="黑体"/>
              </a:rPr>
              <a:t>C.</a:t>
            </a:r>
            <a:r>
              <a:rPr b="1" lang="zh-CN" sz="3600" spc="-1" strike="noStrike">
                <a:solidFill>
                  <a:srgbClr val="cc0099"/>
                </a:solidFill>
                <a:latin typeface="黑体"/>
                <a:ea typeface="黑体"/>
              </a:rPr>
              <a:t>生物圈是指生物活动能够到达的范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黑体"/>
                <a:ea typeface="黑体"/>
              </a:rPr>
              <a:t>D.</a:t>
            </a:r>
            <a:r>
              <a:rPr b="1" lang="zh-CN" sz="3600" spc="-1" strike="noStrike">
                <a:solidFill>
                  <a:srgbClr val="cc0099"/>
                </a:solidFill>
                <a:latin typeface="黑体"/>
                <a:ea typeface="黑体"/>
              </a:rPr>
              <a:t>生物圈是指地球上的生物及其生存空间的总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34120" y="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4362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练习</a:t>
            </a:r>
            <a:r>
              <a:rPr b="0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en-US" sz="3500" spc="-1" strike="noStrike">
                <a:solidFill>
                  <a:srgbClr val="330066"/>
                </a:solidFill>
                <a:latin typeface="黑体"/>
                <a:ea typeface="黑体"/>
              </a:rPr>
              <a:t>:</a:t>
            </a:r>
            <a:br>
              <a:rPr sz="3500"/>
            </a:br>
            <a:r>
              <a:rPr b="0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生物圈的范围为</a:t>
            </a:r>
            <a:r>
              <a:rPr b="0" lang="en-US" sz="35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en-US" sz="3500" spc="-1" strike="noStrike">
                <a:solidFill>
                  <a:srgbClr val="330066"/>
                </a:solidFill>
                <a:latin typeface="黑体"/>
                <a:ea typeface="黑体"/>
              </a:rPr>
              <a:t> </a:t>
            </a:r>
            <a:br>
              <a:rPr sz="3500"/>
            </a:br>
            <a:br>
              <a:rPr sz="3500"/>
            </a:br>
            <a:r>
              <a:rPr b="0" lang="en-US" sz="3600" spc="-1" strike="noStrike">
                <a:solidFill>
                  <a:srgbClr val="330066"/>
                </a:solidFill>
                <a:latin typeface="黑体"/>
                <a:ea typeface="黑体"/>
              </a:rPr>
              <a:t>A.</a:t>
            </a:r>
            <a:r>
              <a:rPr b="0" lang="zh-CN" sz="3600" spc="-1" strike="noStrike">
                <a:solidFill>
                  <a:srgbClr val="330066"/>
                </a:solidFill>
                <a:latin typeface="黑体"/>
                <a:ea typeface="黑体"/>
              </a:rPr>
              <a:t>大气圈、水圈和岩石圈的全部</a:t>
            </a:r>
            <a:br>
              <a:rPr sz="3600"/>
            </a:br>
            <a:r>
              <a:rPr b="0" lang="en-US" sz="3600" spc="-1" strike="noStrike">
                <a:solidFill>
                  <a:srgbClr val="330066"/>
                </a:solidFill>
                <a:latin typeface="黑体"/>
                <a:ea typeface="黑体"/>
              </a:rPr>
              <a:t>B</a:t>
            </a:r>
            <a:r>
              <a:rPr b="0" lang="zh-CN" sz="3600" spc="-1" strike="noStrike">
                <a:solidFill>
                  <a:srgbClr val="330066"/>
                </a:solidFill>
                <a:latin typeface="黑体"/>
                <a:ea typeface="黑体"/>
              </a:rPr>
              <a:t>大气圈和水圈的全部、岩石圈的上部</a:t>
            </a:r>
            <a:br>
              <a:rPr sz="3600"/>
            </a:br>
            <a:r>
              <a:rPr b="0" lang="en-US" sz="3600" spc="-1" strike="noStrike">
                <a:solidFill>
                  <a:srgbClr val="330066"/>
                </a:solidFill>
                <a:latin typeface="黑体"/>
                <a:ea typeface="黑体"/>
              </a:rPr>
              <a:t>C.</a:t>
            </a:r>
            <a:r>
              <a:rPr b="0" lang="zh-CN" sz="3600" spc="-1" strike="noStrike">
                <a:solidFill>
                  <a:srgbClr val="330066"/>
                </a:solidFill>
                <a:latin typeface="黑体"/>
                <a:ea typeface="黑体"/>
              </a:rPr>
              <a:t>大气圈的底部、水圈和岩石圈的全部</a:t>
            </a:r>
            <a:br>
              <a:rPr sz="3600"/>
            </a:br>
            <a:r>
              <a:rPr b="0" lang="en-US" sz="3600" spc="-1" strike="noStrike">
                <a:solidFill>
                  <a:srgbClr val="330066"/>
                </a:solidFill>
                <a:latin typeface="黑体"/>
                <a:ea typeface="黑体"/>
              </a:rPr>
              <a:t>D.</a:t>
            </a:r>
            <a:r>
              <a:rPr b="0" lang="zh-CN" sz="3600" spc="-1" strike="noStrike">
                <a:solidFill>
                  <a:srgbClr val="330066"/>
                </a:solidFill>
                <a:latin typeface="黑体"/>
                <a:ea typeface="黑体"/>
              </a:rPr>
              <a:t>大气圈的底部、水圈的大部和岩石圈的表面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68580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86200" y="38088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练习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en-US" sz="3600" spc="-1" strike="noStrike">
                <a:solidFill>
                  <a:srgbClr val="330066"/>
                </a:solidFill>
                <a:latin typeface="黑体"/>
                <a:ea typeface="黑体"/>
              </a:rPr>
              <a:t>: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不借助任何工具</a:t>
            </a:r>
            <a:r>
              <a:rPr b="0" lang="zh-CN" sz="3600" spc="-1" strike="noStrike">
                <a:solidFill>
                  <a:srgbClr val="330066"/>
                </a:solidFill>
                <a:latin typeface="黑体"/>
                <a:ea typeface="黑体"/>
              </a:rPr>
              <a:t>，可以生活在生物圈的任何圈层的生物是  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0066"/>
                </a:solidFill>
                <a:latin typeface="黑体"/>
                <a:ea typeface="黑体"/>
              </a:rPr>
              <a:t>A</a:t>
            </a:r>
            <a:r>
              <a:rPr b="0" lang="zh-CN" sz="3600" spc="-1" strike="noStrike">
                <a:solidFill>
                  <a:srgbClr val="330066"/>
                </a:solidFill>
                <a:latin typeface="黑体"/>
                <a:ea typeface="黑体"/>
              </a:rPr>
              <a:t>．哺乳类动物   </a:t>
            </a:r>
            <a:br>
              <a:rPr sz="3600"/>
            </a:br>
            <a:r>
              <a:rPr b="0" lang="en-US" sz="3600" spc="-1" strike="noStrike">
                <a:solidFill>
                  <a:srgbClr val="330066"/>
                </a:solidFill>
                <a:latin typeface="黑体"/>
                <a:ea typeface="黑体"/>
              </a:rPr>
              <a:t>B</a:t>
            </a:r>
            <a:r>
              <a:rPr b="0" lang="zh-CN" sz="3600" spc="-1" strike="noStrike">
                <a:solidFill>
                  <a:srgbClr val="330066"/>
                </a:solidFill>
                <a:latin typeface="黑体"/>
                <a:ea typeface="黑体"/>
              </a:rPr>
              <a:t>．人类     </a:t>
            </a:r>
            <a:br>
              <a:rPr sz="3600"/>
            </a:br>
            <a:r>
              <a:rPr b="0" lang="en-US" sz="3600" spc="-1" strike="noStrike">
                <a:solidFill>
                  <a:srgbClr val="330066"/>
                </a:solidFill>
                <a:latin typeface="黑体"/>
                <a:ea typeface="黑体"/>
              </a:rPr>
              <a:t>C</a:t>
            </a:r>
            <a:r>
              <a:rPr b="0" lang="zh-CN" sz="3600" spc="-1" strike="noStrike">
                <a:solidFill>
                  <a:srgbClr val="330066"/>
                </a:solidFill>
                <a:latin typeface="黑体"/>
                <a:ea typeface="黑体"/>
              </a:rPr>
              <a:t>．鱼类              </a:t>
            </a:r>
            <a:br>
              <a:rPr sz="3600"/>
            </a:br>
            <a:r>
              <a:rPr b="0" lang="en-US" sz="3600" spc="-1" strike="noStrike">
                <a:solidFill>
                  <a:srgbClr val="330066"/>
                </a:solidFill>
                <a:latin typeface="黑体"/>
                <a:ea typeface="黑体"/>
              </a:rPr>
              <a:t>D</a:t>
            </a:r>
            <a:r>
              <a:rPr b="0" lang="zh-CN" sz="3600" spc="-1" strike="noStrike">
                <a:solidFill>
                  <a:srgbClr val="330066"/>
                </a:solidFill>
                <a:latin typeface="黑体"/>
                <a:ea typeface="黑体"/>
              </a:rPr>
              <a:t>．细菌类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038480" y="1219320"/>
            <a:ext cx="259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914400" y="0"/>
            <a:ext cx="8229240" cy="6857640"/>
            <a:chOff x="914400" y="0"/>
            <a:chExt cx="8229240" cy="6857640"/>
          </a:xfrm>
        </p:grpSpPr>
        <p:pic>
          <p:nvPicPr>
            <p:cNvPr id="257" name="" descr=""/>
            <p:cNvPicPr/>
            <p:nvPr/>
          </p:nvPicPr>
          <p:blipFill>
            <a:blip r:embed="rId1"/>
            <a:stretch/>
          </p:blipFill>
          <p:spPr>
            <a:xfrm>
              <a:off x="5068080" y="4659480"/>
              <a:ext cx="4075560" cy="219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>
              <a:off x="914400" y="4659480"/>
              <a:ext cx="4153680" cy="2198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9" name=""/>
            <p:cNvGrpSpPr/>
            <p:nvPr/>
          </p:nvGrpSpPr>
          <p:grpSpPr>
            <a:xfrm>
              <a:off x="914400" y="0"/>
              <a:ext cx="8150400" cy="4624560"/>
              <a:chOff x="914400" y="0"/>
              <a:chExt cx="8150400" cy="4624560"/>
            </a:xfrm>
          </p:grpSpPr>
          <p:pic>
            <p:nvPicPr>
              <p:cNvPr id="26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14400" y="0"/>
                <a:ext cx="4153680" cy="237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068080" y="0"/>
                <a:ext cx="3996720" cy="237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068080" y="2373480"/>
                <a:ext cx="3996720" cy="225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2373480"/>
                <a:ext cx="4153680" cy="2251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4" name=""/>
          <p:cNvSpPr/>
          <p:nvPr/>
        </p:nvSpPr>
        <p:spPr>
          <a:xfrm>
            <a:off x="6156360" y="1916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14400" y="5715000"/>
            <a:ext cx="2590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657600" y="57150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30320" y="511200"/>
            <a:ext cx="101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华文彩云"/>
                <a:ea typeface="华文彩云"/>
              </a:rPr>
              <a:t>多种多样的生态系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484360" y="1844640"/>
            <a:ext cx="2592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森林生态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551640" y="1773360"/>
            <a:ext cx="2592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湿地生态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484360" y="4076640"/>
            <a:ext cx="2592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草原生态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51640" y="4149720"/>
            <a:ext cx="2592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海洋生态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84360" y="6338880"/>
            <a:ext cx="2592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农田生态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551640" y="6338880"/>
            <a:ext cx="2592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城市生态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162920" y="0"/>
            <a:ext cx="198108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52280" y="838080"/>
          <a:ext cx="8763120" cy="5410080"/>
        </p:xfrm>
        <a:graphic>
          <a:graphicData uri="http://schemas.openxmlformats.org/drawingml/2006/table">
            <a:tbl>
              <a:tblPr/>
              <a:tblGrid>
                <a:gridCol w="1206360"/>
                <a:gridCol w="1365480"/>
                <a:gridCol w="2975040"/>
                <a:gridCol w="2009520"/>
                <a:gridCol w="1206720"/>
              </a:tblGrid>
              <a:tr h="111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生态系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动植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作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称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草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湿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海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森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淡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农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城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0" y="1522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任务二、阅读书本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P28~29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，完成下面表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7162920" y="0"/>
            <a:ext cx="198108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76320" y="228600"/>
          <a:ext cx="8991360" cy="6397560"/>
        </p:xfrm>
        <a:graphic>
          <a:graphicData uri="http://schemas.openxmlformats.org/drawingml/2006/table">
            <a:tbl>
              <a:tblPr/>
              <a:tblGrid>
                <a:gridCol w="990360"/>
                <a:gridCol w="1752480"/>
                <a:gridCol w="2932200"/>
                <a:gridCol w="2173320"/>
                <a:gridCol w="1143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生态系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动植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作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称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草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湿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海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淡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"/>
          <p:cNvSpPr/>
          <p:nvPr/>
        </p:nvSpPr>
        <p:spPr>
          <a:xfrm>
            <a:off x="-129384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1371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干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048120" y="11653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95480" y="12193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相对少，动物有挖洞或善奔跑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943600" y="121932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保持水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防风固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畜牧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36760" y="266688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多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过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819520" y="25909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沼泽动植物，如丹顶鹤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867280" y="2743200"/>
            <a:ext cx="205740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净化水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蓄洪抗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924680" y="2666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地球之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19320" y="53341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河流、湖泊、池塘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71800" y="5334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淡水生物，如睡莲，淡水鱼，虾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867280" y="53341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饮用水、灌溉及工业水源，调节气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-2284560" y="320040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66680" y="37339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海洋，占地球表面积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7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71800" y="3886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浮游植物，海洋动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943600" y="3657600"/>
            <a:ext cx="198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吸收二氧化碳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产氧量占地球产氧总量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6T15:14:34Z</dcterms:created>
  <dc:creator>http://zhdduya100.taobao.com/</dc:creator>
  <dc:description>http://zhdduya100.taobao.com/</dc:description>
  <cp:keywords>http://zhdduya100.taobao.com/</cp:keywords>
  <dc:language>en-US</dc:language>
  <cp:lastModifiedBy>微软用户</cp:lastModifiedBy>
  <dcterms:modified xsi:type="dcterms:W3CDTF">2013-09-21T12:09:26Z</dcterms:modified>
  <cp:revision>4</cp:revision>
  <dc:subject>http://zhdduya100.taobao.com/</dc:subject>
  <dc:title>http://zhdduya100.taobao.com/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